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72D-9811-4973-819D-EEE0D342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B3D-75D1-49B3-A328-C3BDC430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46B-A282-4329-A16C-6022B148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38E6-42CE-4776-B953-EFE5ED16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6DD-5123-4944-8390-581B1D4B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EBA-3E45-42D6-B1DF-AEE150A6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F7C-409A-4DCB-B3E4-36E11159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60D-63A8-45CC-9750-739A02A8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F1D-D625-403E-B4C2-9285CCFF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C90-BA52-4466-8F45-C15B8B45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269-9670-4E5F-9B9A-6E2327B1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8E6-9806-4AA1-ADF4-419127E0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2A7B-0D87-45DF-BF6C-3AC9C7F17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Member Functions and Function Over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9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Function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++ (not C), a function or member function can have defaul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ed parameters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ouped toge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parameter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defined in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: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la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not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Parameter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dd(int a, int b, bool print=fal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pri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%d\n", a+b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+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4, 5); // Doesn't print by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6, 7, true); // This will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Parameter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(int initialVal=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Inc(int amt=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Dec(int amt=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::Counter(int initialVal/*=0*/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_count = initial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Inc(int amt/*=1*/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_count += am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Dec(int amt/*=1*/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_count -= am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 counter1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itialized to 0 by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1.Inc()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cremented by 1 by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1.Inc(5)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crement by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 counter2(5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2.Dec(2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2.Dec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wee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over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everything covered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Static Data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ic data member exists even before any object of its class is created (like a global vari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ic data member is shared between all instances of tha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initialized outside the class definition (using the scope operator ::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Memb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static data members, they exist before an instance of their class is created (like a global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ublic, can be called without a class instance using the scope operator :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nly access static data members, NOT regular data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c Member Function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Static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Tes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++m_sCounter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StaticTes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--m_sCounter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GetCoun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m_sCoun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m_sCoun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taticTest::m_sCounter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419720" y="4876920"/>
            <a:ext cx="4203000" cy="825480"/>
            <a:chOff x="4419720" y="4876920"/>
            <a:chExt cx="4203000" cy="825480"/>
          </a:xfrm>
        </p:grpSpPr>
        <p:sp>
          <p:nvSpPr>
            <p:cNvPr id="50" name=""/>
            <p:cNvSpPr/>
            <p:nvPr/>
          </p:nvSpPr>
          <p:spPr>
            <a:xfrm>
              <a:off x="5035680" y="4876920"/>
              <a:ext cx="35870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keep our data pri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s we should in C+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5105160"/>
              <a:ext cx="609480" cy="304560"/>
            </a:xfrm>
            <a:prstGeom prst="leftArrow">
              <a:avLst>
                <a:gd name="adj1" fmla="val 50000"/>
                <a:gd name="adj2" fmla="val 5003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419720" y="3352680"/>
            <a:ext cx="4320360" cy="825480"/>
            <a:chOff x="4419720" y="3352680"/>
            <a:chExt cx="4320360" cy="825480"/>
          </a:xfrm>
        </p:grpSpPr>
        <p:sp>
          <p:nvSpPr>
            <p:cNvPr id="53" name=""/>
            <p:cNvSpPr/>
            <p:nvPr/>
          </p:nvSpPr>
          <p:spPr>
            <a:xfrm>
              <a:off x="5038920" y="3352680"/>
              <a:ext cx="37011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low access only throu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tic member 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19720" y="3504960"/>
              <a:ext cx="609480" cy="304920"/>
            </a:xfrm>
            <a:prstGeom prst="leftArrow">
              <a:avLst>
                <a:gd name="adj1" fmla="val 50000"/>
                <a:gd name="adj2" fmla="val 499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Number of StaticTest instances...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 "%d\n", StaticTest::GetCount()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Test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 "%d\n", StaticTest::GetCount()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Test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 "%d\n", b.GetCount()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773080" y="2382840"/>
            <a:ext cx="3295800" cy="1001520"/>
            <a:chOff x="2773080" y="2382840"/>
            <a:chExt cx="3295800" cy="1001520"/>
          </a:xfrm>
        </p:grpSpPr>
        <p:sp>
          <p:nvSpPr>
            <p:cNvPr id="58" name=""/>
            <p:cNvSpPr/>
            <p:nvPr/>
          </p:nvSpPr>
          <p:spPr>
            <a:xfrm>
              <a:off x="2773080" y="2382840"/>
              <a:ext cx="32958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on’t need an inst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56200" y="2851200"/>
              <a:ext cx="457200" cy="533160"/>
            </a:xfrm>
            <a:prstGeom prst="downArrow">
              <a:avLst>
                <a:gd name="adj1" fmla="val 50000"/>
                <a:gd name="adj2" fmla="val 2915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50560" y="5410080"/>
            <a:ext cx="4313880" cy="993240"/>
            <a:chOff x="1150560" y="5410080"/>
            <a:chExt cx="4313880" cy="993240"/>
          </a:xfrm>
        </p:grpSpPr>
        <p:sp>
          <p:nvSpPr>
            <p:cNvPr id="61" name=""/>
            <p:cNvSpPr/>
            <p:nvPr/>
          </p:nvSpPr>
          <p:spPr>
            <a:xfrm>
              <a:off x="1150560" y="5943600"/>
              <a:ext cx="43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ut you can use one if you li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71800" y="5410080"/>
              <a:ext cx="380880" cy="533520"/>
            </a:xfrm>
            <a:prstGeom prst="upArrow">
              <a:avLst>
                <a:gd name="adj1" fmla="val 50000"/>
                <a:gd name="adj2" fmla="val 350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++ (not C), you can define functions with the sa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with different parame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nction that gets called depends o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rguments passed to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type does not cou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 Overloading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rintVal(int intV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"%d\n", intVa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rintVal(double doubleV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"%f\n", doubleVa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rintVal(bool boolV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boolV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"true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"false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Val(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Val(5.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Val(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61360" y="4495680"/>
            <a:ext cx="14500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6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on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dd(int a, int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 +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dd(int a, int b, int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 = Add(3, 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h = Add(6, 7, 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another on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d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dd(int a, int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 +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dd(int a, int b, int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er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 = a.Add(1, 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h = a.Add(5, 6, 7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4:30:34Z</dcterms:created>
  <dc:creator>Antonio Maiorano</dc:creator>
  <dc:description/>
  <dc:language>en-US</dc:language>
  <cp:lastModifiedBy>Tony</cp:lastModifiedBy>
  <dcterms:modified xsi:type="dcterms:W3CDTF">2003-08-23T18:09:49Z</dcterms:modified>
  <cp:revision>18</cp:revision>
  <dc:subject/>
  <dc:title>C/C++ Tutorial</dc:title>
</cp:coreProperties>
</file>